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4206-8D14-4E73-A200-6094CF44F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5EF6-3CAD-4D3E-ACF2-0B52E4E8B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EE809A-3E1D-474D-8A82-1351DEC0A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940FC8-9326-46A1-AE1B-AFAABF7EC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590750-FCDB-471A-A5CC-594BD8563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5BF015-C665-41B7-A028-88F40D394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158F63-ED29-4979-A067-628205DF2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335D50-F63F-4CE3-98DA-FDCFA8C39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B79406-76E5-404C-BEDB-1C393CBE1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D05EAE-AE31-44B3-8ACC-3DF440215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3FB7DA-6B93-48A4-A651-52D0B84D0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1CBAB6-57F9-4DCD-ACBB-D7B2FE954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3251-C675-4EBC-BD64-830E0FBAE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4574D0-4537-460E-A7FC-7FFEFF8CF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53F407-B96D-4302-8DB6-CF6D5AF9D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963672-E4B3-4BC9-B28E-EB07E2161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F1A71E-A1ED-45C4-A97E-741BD8E30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930C2B-E6D4-4F70-8CE1-7512446DB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0A6C3C-488B-4872-8E9A-ED18C4AE3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7F21F1-719F-4392-8EBF-F5B692A35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7C092A-4DA0-4117-98D2-C76FB0AF0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077C17-22BF-425E-BC96-2CFA81D2D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9F8E14-FD4F-4EF9-A1E4-AAF202FBF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51DE-0905-4A79-9483-5D756FC3C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92923A-BBC3-422B-BC75-7B96B58C5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D002E-CDD7-4FEE-80C2-1CD33E29E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C12D5-2B03-44EC-B257-CFF199C19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D1966-2BEC-4A27-86F2-55A813F29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7FA09-0B04-4DC9-8EA4-A0E1D1EDA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A7D70-8B35-4BBA-B081-9A8F3AD78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83664-0E3D-4CB4-B8DF-CB4CE1BC7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476DC-67E9-4368-AA96-2708442FF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CB00-4163-4B1B-B65A-5B3103651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03FD2-C90D-4ABD-A749-93F48E744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E8B61-2381-4872-A2F0-D9738575E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C3899-ACEB-4053-983E-8E840E56D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69ACA-62DC-4E6F-AC3D-AECA852AC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B2433-E027-439E-B388-7C5F33DAF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850999-AC5B-4FA6-ACD0-B753FCC6F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8375D2-151F-49DA-B183-F7EA72BD0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D12A0F-AF5C-4050-B85D-99E3F04AF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111EB5-13E2-4AFC-ADA9-2A5ED0F49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DFFB9D-C5A8-4A1F-854C-C8EC523D5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C349-29BD-407A-ACAB-B6E00E0BD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4A1139-8C34-4E7C-9E7F-4CF9C545F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FA23AC-1B33-4C17-BCE1-0D4CFAE13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D97083-BAA2-48E1-96F3-411B3B402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67F1C4-B2B1-4FB1-A6F6-EF80EB26E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278913-B63E-4B5B-A653-F65E0961D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77311C-8347-4FFA-A085-B500B3149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A39ED9-B6DC-4E58-BFD2-92E47B727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B478A4-7F8F-486E-815C-520F887B2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E9FB0D-1181-4F06-8AC7-888BACD7D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1DDA6F-6886-4F0A-A3F6-0B488E246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057D-C133-480E-80D4-401409F3F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27A6CE-D55C-4B3B-86BC-E97C42CF0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587D8F-CA0F-4BE0-956F-8B535F032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E8391F-26B7-4F52-AE68-D83A99861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CFDBE9-03C5-43BB-BFA1-6FD532A1F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A4F7DA-CB91-4359-B725-7B025F722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443CB1-76D0-4636-BB78-CD5047660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1A3B30-C4DE-4F14-9CB3-991EF2536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D1EB21-E6D2-4719-943C-0D39E1E3D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34DE8D-7D6C-4CA0-B99D-830FB6CF6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2606CA-06A9-4267-AD9E-004E68457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D3A4-D58B-4815-A48D-2AA7E67A1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80EDBF-D11F-4807-8971-B9BAB0AAB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AEA0DA-BDEE-4F74-B2B1-C9ED37EEC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DC93B8-02BC-4D38-ADEA-400E85075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83908B-D1B9-4058-8F13-715BAD63A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F693B3-7E21-4E5B-B0FA-8449CEAC5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517783-5BE0-4FD5-888A-EE459ED87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E8FC81-D112-4293-8639-088D11840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9DE95C-859C-4DF9-9FEA-CE3F8F624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070C5F-8A70-4150-8894-42EF457EF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F9BC0E-4A33-40E8-A54B-26C737A85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A4CB-0FF7-4EE5-B7D5-C7994B8AB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EC51E8-475C-4F2F-8541-8361E0943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B850DF-B605-404E-B234-335533654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5CC4D5-66FA-4A06-B930-CCDDEDB36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C62924-4B20-4CF7-B117-14B585FA1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F1742E-24A6-4870-A4A8-9FFF82247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8F90D9-EF5F-401C-93F1-003DD820C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F3B061-141B-4FC9-8719-9814A947C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38C287-E640-41CF-BA74-57B296336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DAFB35-E387-45E9-AE34-6AEA5AE21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E5E920-FE45-4AAD-8757-314A10C0D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DB24-6C95-4C62-B985-E989D11CF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F2D105-C91D-4E0C-B996-E6B65C00A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8CD1EF-78EA-42F0-BF4E-E3D8D6A3A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EB562D-CD17-4BA2-AAE5-C744C5599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74D2A3-F5EB-46D6-BC68-B4EDD8F60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1F3CD5-A122-4729-82FA-86327AD4A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FF5320-9EE5-42DF-A809-D642056B6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CBEF31-4757-44D8-8C1C-AE83D7845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15FE4F-92AB-4DB5-A1CF-83FE1C64E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C38128-45AF-4C62-9E9B-C71ABC7D0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7D9F0C-1FCC-42C9-8872-3E3E214E1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A5B6-BF50-44D5-A64C-F1B2FC308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4FA7F5-75B9-4483-91DF-CE75530A6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B970F4-9889-41E8-9C33-88F91BA3C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2554F1-D802-47B1-A685-10BD690DB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79EEA5-77AB-4A9B-8F72-138B6771D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324CEC-1F93-4DBD-B86A-9BC460F77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C21451-9020-41A2-B81A-DD452A829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2C0FF8-AF47-4DAB-AD16-A89170AEC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022CC0-6DB2-4FDB-B836-F0479794D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10BD1B-189C-445A-BBC2-79ED17C27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6CCB18-266D-470B-96D1-697E18AEB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2AB4-35D2-4A82-8B10-290FB583A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A13FCA-A187-4AF9-BBDA-23A48B2E1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5E82CB-D0E3-4750-B2A0-AC0518D23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07BF11-E69B-4989-A2E3-21F4A569B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E8FDE8-3105-41CC-960F-5CC22EFA8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A5713A-8827-4C37-A01F-094EB31F9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34A03A-4534-46B8-9DE6-7C3AEA618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E76317-A1B4-47BE-8425-640595D5C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37D9CB-B577-4F50-B38E-B827C7EBF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37AD1A-0AD6-4AA1-A8CB-A816759DB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18E468-8719-4FAF-AFC4-270F15129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36BC8-4C57-47C2-A7EF-91E9922191F5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6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Rectangle 7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8" name="Group 8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449" name="Freeform 9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450" name="Freeform 9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1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2" name="Rectangle 10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c0504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Rectangle 11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8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9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0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62B00-199C-42F6-A448-706D32FE7930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5"/>
          <p:cNvSpPr/>
          <p:nvPr/>
        </p:nvSpPr>
        <p:spPr>
          <a:xfrm>
            <a:off x="0" y="1928880"/>
            <a:ext cx="9144000" cy="492912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46" descr="2.png"/>
          <p:cNvPicPr/>
          <p:nvPr/>
        </p:nvPicPr>
        <p:blipFill>
          <a:blip r:embed="rId2"/>
          <a:stretch/>
        </p:blipFill>
        <p:spPr>
          <a:xfrm>
            <a:off x="5072040" y="3571920"/>
            <a:ext cx="3718080" cy="328608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20"/>
          <p:cNvGrpSpPr/>
          <p:nvPr/>
        </p:nvGrpSpPr>
        <p:grpSpPr>
          <a:xfrm>
            <a:off x="7287480" y="716400"/>
            <a:ext cx="867600" cy="1688400"/>
            <a:chOff x="7287480" y="716400"/>
            <a:chExt cx="867600" cy="1688400"/>
          </a:xfrm>
        </p:grpSpPr>
        <p:sp>
          <p:nvSpPr>
            <p:cNvPr id="44" name="Rectangle 19"/>
            <p:cNvSpPr/>
            <p:nvPr/>
          </p:nvSpPr>
          <p:spPr>
            <a:xfrm rot="360000">
              <a:off x="7868880" y="878760"/>
              <a:ext cx="210960" cy="144504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" name="Group 18"/>
            <p:cNvGrpSpPr/>
            <p:nvPr/>
          </p:nvGrpSpPr>
          <p:grpSpPr>
            <a:xfrm>
              <a:off x="7287480" y="716400"/>
              <a:ext cx="669960" cy="1688400"/>
              <a:chOff x="7287480" y="716400"/>
              <a:chExt cx="669960" cy="1688400"/>
            </a:xfrm>
          </p:grpSpPr>
          <p:sp>
            <p:nvSpPr>
              <p:cNvPr id="46" name="Rectangle 16"/>
              <p:cNvSpPr/>
              <p:nvPr/>
            </p:nvSpPr>
            <p:spPr>
              <a:xfrm rot="360000">
                <a:off x="7425720" y="740880"/>
                <a:ext cx="502920" cy="576360"/>
              </a:xfrm>
              <a:prstGeom prst="rect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Rectangle 17"/>
              <p:cNvSpPr/>
              <p:nvPr/>
            </p:nvSpPr>
            <p:spPr>
              <a:xfrm rot="360000">
                <a:off x="7341840" y="1310760"/>
                <a:ext cx="502920" cy="1070280"/>
              </a:xfrm>
              <a:prstGeom prst="rect">
                <a:avLst/>
              </a:prstGeom>
              <a:solidFill>
                <a:srgbClr val="dce6f2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8" name="Group 26"/>
          <p:cNvGrpSpPr/>
          <p:nvPr/>
        </p:nvGrpSpPr>
        <p:grpSpPr>
          <a:xfrm>
            <a:off x="7856640" y="1067400"/>
            <a:ext cx="966600" cy="1712880"/>
            <a:chOff x="7856640" y="1067400"/>
            <a:chExt cx="966600" cy="1712880"/>
          </a:xfrm>
        </p:grpSpPr>
        <p:sp>
          <p:nvSpPr>
            <p:cNvPr id="49" name="Rectangle 22"/>
            <p:cNvSpPr/>
            <p:nvPr/>
          </p:nvSpPr>
          <p:spPr>
            <a:xfrm rot="600000">
              <a:off x="8488440" y="1246320"/>
              <a:ext cx="210960" cy="144432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24"/>
            <p:cNvSpPr/>
            <p:nvPr/>
          </p:nvSpPr>
          <p:spPr>
            <a:xfrm rot="600000">
              <a:off x="8082000" y="1106640"/>
              <a:ext cx="503280" cy="576000"/>
            </a:xfrm>
            <a:prstGeom prst="rect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25"/>
            <p:cNvSpPr/>
            <p:nvPr/>
          </p:nvSpPr>
          <p:spPr>
            <a:xfrm rot="600000">
              <a:off x="7945560" y="1674360"/>
              <a:ext cx="503280" cy="1069920"/>
            </a:xfrm>
            <a:prstGeom prst="rect">
              <a:avLst/>
            </a:prstGeom>
            <a:solidFill>
              <a:srgbClr val="f2dcd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Group 41"/>
          <p:cNvGrpSpPr/>
          <p:nvPr/>
        </p:nvGrpSpPr>
        <p:grpSpPr>
          <a:xfrm>
            <a:off x="0" y="1809720"/>
            <a:ext cx="9144000" cy="120600"/>
            <a:chOff x="0" y="1809720"/>
            <a:chExt cx="9144000" cy="120600"/>
          </a:xfrm>
        </p:grpSpPr>
        <p:sp>
          <p:nvSpPr>
            <p:cNvPr id="53" name="Straight Connector 31"/>
            <p:cNvSpPr/>
            <p:nvPr/>
          </p:nvSpPr>
          <p:spPr>
            <a:xfrm>
              <a:off x="0" y="180972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Straight Connector 33"/>
            <p:cNvSpPr/>
            <p:nvPr/>
          </p:nvSpPr>
          <p:spPr>
            <a:xfrm>
              <a:off x="0" y="18651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Straight Connector 34"/>
            <p:cNvSpPr/>
            <p:nvPr/>
          </p:nvSpPr>
          <p:spPr>
            <a:xfrm>
              <a:off x="0" y="19288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6" name="Group 277" descr=""/>
          <p:cNvPicPr/>
          <p:nvPr/>
        </p:nvPicPr>
        <p:blipFill>
          <a:blip r:embed="rId3"/>
          <a:stretch/>
        </p:blipFill>
        <p:spPr>
          <a:xfrm>
            <a:off x="438120" y="2298600"/>
            <a:ext cx="1414440" cy="14986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0A459-404C-4321-90AD-ED95BF8DCDDB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traight Connector 6"/>
          <p:cNvSpPr/>
          <p:nvPr/>
        </p:nvSpPr>
        <p:spPr>
          <a:xfrm>
            <a:off x="0" y="1316160"/>
            <a:ext cx="8577360" cy="1440"/>
          </a:xfrm>
          <a:prstGeom prst="line">
            <a:avLst/>
          </a:prstGeom>
          <a:ln w="93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Group 277" descr=""/>
          <p:cNvPicPr/>
          <p:nvPr/>
        </p:nvPicPr>
        <p:blipFill>
          <a:blip r:embed="rId2"/>
          <a:stretch/>
        </p:blipFill>
        <p:spPr>
          <a:xfrm>
            <a:off x="317520" y="212760"/>
            <a:ext cx="968400" cy="10000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11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2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18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103" name="Freeform 14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104" name="Freeform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" name="Rectangle 16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Rectangle 17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90F12-A92F-4635-9191-F67AD4B643F9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8"/>
          <p:cNvSpPr/>
          <p:nvPr/>
        </p:nvSpPr>
        <p:spPr>
          <a:xfrm>
            <a:off x="0" y="4718160"/>
            <a:ext cx="9144000" cy="172872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Group 6"/>
          <p:cNvGrpSpPr/>
          <p:nvPr/>
        </p:nvGrpSpPr>
        <p:grpSpPr>
          <a:xfrm>
            <a:off x="7031880" y="3440520"/>
            <a:ext cx="867960" cy="1688400"/>
            <a:chOff x="7031880" y="3440520"/>
            <a:chExt cx="867960" cy="1688400"/>
          </a:xfrm>
        </p:grpSpPr>
        <p:sp>
          <p:nvSpPr>
            <p:cNvPr id="151" name="Rectangle 7"/>
            <p:cNvSpPr/>
            <p:nvPr/>
          </p:nvSpPr>
          <p:spPr>
            <a:xfrm rot="360000">
              <a:off x="7613640" y="3602880"/>
              <a:ext cx="210960" cy="144504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" name="Group 18"/>
            <p:cNvGrpSpPr/>
            <p:nvPr/>
          </p:nvGrpSpPr>
          <p:grpSpPr>
            <a:xfrm>
              <a:off x="7031880" y="3440520"/>
              <a:ext cx="670320" cy="1688400"/>
              <a:chOff x="7031880" y="3440520"/>
              <a:chExt cx="670320" cy="1688400"/>
            </a:xfrm>
          </p:grpSpPr>
          <p:sp>
            <p:nvSpPr>
              <p:cNvPr id="153" name="Rectangle 9"/>
              <p:cNvSpPr/>
              <p:nvPr/>
            </p:nvSpPr>
            <p:spPr>
              <a:xfrm rot="360000">
                <a:off x="7170120" y="3465000"/>
                <a:ext cx="503280" cy="576360"/>
              </a:xfrm>
              <a:prstGeom prst="rect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Rectangle 10"/>
              <p:cNvSpPr/>
              <p:nvPr/>
            </p:nvSpPr>
            <p:spPr>
              <a:xfrm rot="360000">
                <a:off x="7086240" y="4034880"/>
                <a:ext cx="503280" cy="1070280"/>
              </a:xfrm>
              <a:prstGeom prst="rect">
                <a:avLst/>
              </a:prstGeom>
              <a:solidFill>
                <a:srgbClr val="dce6f2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5" name="Group 11"/>
          <p:cNvGrpSpPr/>
          <p:nvPr/>
        </p:nvGrpSpPr>
        <p:grpSpPr>
          <a:xfrm>
            <a:off x="7620120" y="3791520"/>
            <a:ext cx="966600" cy="1712880"/>
            <a:chOff x="7620120" y="3791520"/>
            <a:chExt cx="966600" cy="1712880"/>
          </a:xfrm>
        </p:grpSpPr>
        <p:sp>
          <p:nvSpPr>
            <p:cNvPr id="156" name="Rectangle 12"/>
            <p:cNvSpPr/>
            <p:nvPr/>
          </p:nvSpPr>
          <p:spPr>
            <a:xfrm rot="600000">
              <a:off x="8251920" y="3970440"/>
              <a:ext cx="210960" cy="144432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Rectangle 13"/>
            <p:cNvSpPr/>
            <p:nvPr/>
          </p:nvSpPr>
          <p:spPr>
            <a:xfrm rot="600000">
              <a:off x="7845480" y="3830760"/>
              <a:ext cx="503280" cy="576000"/>
            </a:xfrm>
            <a:prstGeom prst="rect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14"/>
            <p:cNvSpPr/>
            <p:nvPr/>
          </p:nvSpPr>
          <p:spPr>
            <a:xfrm rot="600000">
              <a:off x="7709040" y="4398480"/>
              <a:ext cx="503280" cy="1069920"/>
            </a:xfrm>
            <a:prstGeom prst="rect">
              <a:avLst/>
            </a:prstGeom>
            <a:solidFill>
              <a:srgbClr val="f2dcd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Group 19"/>
          <p:cNvGrpSpPr/>
          <p:nvPr/>
        </p:nvGrpSpPr>
        <p:grpSpPr>
          <a:xfrm>
            <a:off x="0" y="4575240"/>
            <a:ext cx="9144000" cy="120600"/>
            <a:chOff x="0" y="4575240"/>
            <a:chExt cx="9144000" cy="120600"/>
          </a:xfrm>
        </p:grpSpPr>
        <p:sp>
          <p:nvSpPr>
            <p:cNvPr id="160" name="Straight Connector 15"/>
            <p:cNvSpPr/>
            <p:nvPr/>
          </p:nvSpPr>
          <p:spPr>
            <a:xfrm>
              <a:off x="0" y="457524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Straight Connector 16"/>
            <p:cNvSpPr/>
            <p:nvPr/>
          </p:nvSpPr>
          <p:spPr>
            <a:xfrm>
              <a:off x="0" y="46306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Straight Connector 17"/>
            <p:cNvSpPr/>
            <p:nvPr/>
          </p:nvSpPr>
          <p:spPr>
            <a:xfrm>
              <a:off x="0" y="469440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3" name="Group 277" descr=""/>
          <p:cNvPicPr/>
          <p:nvPr/>
        </p:nvPicPr>
        <p:blipFill>
          <a:blip r:embed="rId2"/>
          <a:stretch/>
        </p:blipFill>
        <p:spPr>
          <a:xfrm>
            <a:off x="360360" y="5005440"/>
            <a:ext cx="992160" cy="106668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0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1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2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D4A24-4661-42A0-920D-2833CBC5820C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9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208" name="Freeform 10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209" name="Freeform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0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1" name="Rectangle 11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c0504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Rectangle 12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Straight Connector 13"/>
          <p:cNvSpPr/>
          <p:nvPr/>
        </p:nvSpPr>
        <p:spPr>
          <a:xfrm>
            <a:off x="0" y="1316160"/>
            <a:ext cx="8577360" cy="1440"/>
          </a:xfrm>
          <a:prstGeom prst="line">
            <a:avLst/>
          </a:prstGeom>
          <a:ln w="93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4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5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0B7DD-760B-44D2-BEC5-44F1825631BC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9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Group 10"/>
          <p:cNvGrpSpPr/>
          <p:nvPr/>
        </p:nvGrpSpPr>
        <p:grpSpPr>
          <a:xfrm>
            <a:off x="0" y="1143000"/>
            <a:ext cx="9144000" cy="120600"/>
            <a:chOff x="0" y="1143000"/>
            <a:chExt cx="9144000" cy="120600"/>
          </a:xfrm>
        </p:grpSpPr>
        <p:sp>
          <p:nvSpPr>
            <p:cNvPr id="257" name="Straight Connector 11"/>
            <p:cNvSpPr/>
            <p:nvPr/>
          </p:nvSpPr>
          <p:spPr>
            <a:xfrm>
              <a:off x="0" y="114300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Straight Connector 12"/>
            <p:cNvSpPr/>
            <p:nvPr/>
          </p:nvSpPr>
          <p:spPr>
            <a:xfrm>
              <a:off x="0" y="119844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Straight Connector 13"/>
            <p:cNvSpPr/>
            <p:nvPr/>
          </p:nvSpPr>
          <p:spPr>
            <a:xfrm>
              <a:off x="0" y="12621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0" name="Group 277" descr=""/>
          <p:cNvPicPr/>
          <p:nvPr/>
        </p:nvPicPr>
        <p:blipFill>
          <a:blip r:embed="rId2"/>
          <a:stretch/>
        </p:blipFill>
        <p:spPr>
          <a:xfrm>
            <a:off x="285840" y="146160"/>
            <a:ext cx="860400" cy="93348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6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17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18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91A27-9A48-4C7C-93C0-408DA1C33FA6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8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" name="Group 9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305" name="Freeform 10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306" name="Freeform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7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8" name="Rectangle 11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Rectangle 12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ftr" idx="20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sldNum" idx="21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7AC58-E10A-4571-BC23-E979C0666129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8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9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Group 10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354" name="Freeform 11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355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6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7" name="Rectangle 12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Rectangle 13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22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23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24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62C48-7EE5-4730-906A-75BF16F3C816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6"/>
          <p:cNvSpPr/>
          <p:nvPr/>
        </p:nvSpPr>
        <p:spPr>
          <a:xfrm>
            <a:off x="0" y="0"/>
            <a:ext cx="9144000" cy="139068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1" name="Group 7"/>
          <p:cNvGrpSpPr/>
          <p:nvPr/>
        </p:nvGrpSpPr>
        <p:grpSpPr>
          <a:xfrm>
            <a:off x="0" y="1380960"/>
            <a:ext cx="9144000" cy="120960"/>
            <a:chOff x="0" y="1380960"/>
            <a:chExt cx="9144000" cy="120960"/>
          </a:xfrm>
        </p:grpSpPr>
        <p:sp>
          <p:nvSpPr>
            <p:cNvPr id="402" name="Straight Connector 8"/>
            <p:cNvSpPr/>
            <p:nvPr/>
          </p:nvSpPr>
          <p:spPr>
            <a:xfrm>
              <a:off x="0" y="13809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Straight Connector 9"/>
            <p:cNvSpPr/>
            <p:nvPr/>
          </p:nvSpPr>
          <p:spPr>
            <a:xfrm>
              <a:off x="0" y="14367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Straight Connector 10"/>
            <p:cNvSpPr/>
            <p:nvPr/>
          </p:nvSpPr>
          <p:spPr>
            <a:xfrm>
              <a:off x="0" y="15004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dt" idx="25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 type="ftr" idx="26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 type="sldNum" idx="27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1DE28-C353-43DF-AFF5-FF46B909511E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57200" y="2998440"/>
            <a:ext cx="629136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굴림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  <a:ea typeface="굴림"/>
              </a:rPr>
              <a:t>KORN 101-01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title"/>
          </p:nvPr>
        </p:nvSpPr>
        <p:spPr>
          <a:xfrm>
            <a:off x="1499760" y="4856040"/>
            <a:ext cx="6985080" cy="13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LESSON 8. </a:t>
            </a: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언제 한국에 오셨습니까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?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5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__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에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(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ㅂ니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저녁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편지를 쓰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다음 주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쉬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내년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결혼을 하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디음 달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일본에 가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오후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약속이 있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6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6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가</a:t>
            </a:r>
            <a:r>
              <a:rPr b="1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</a:t>
            </a:r>
            <a:r>
              <a:rPr b="1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언제 </a:t>
            </a:r>
            <a:r>
              <a:rPr b="1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__________(</a:t>
            </a:r>
            <a:r>
              <a:rPr b="1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스</a:t>
            </a:r>
            <a:r>
              <a:rPr b="1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)</a:t>
            </a:r>
            <a:r>
              <a:rPr b="1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ㅂ니까</a:t>
            </a:r>
            <a:r>
              <a:rPr b="1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   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__________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에 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_________(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)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ㅂ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영화를 봤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지난 주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서울에 왔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6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월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결혼했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작년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9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신문을 읽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아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청소를 하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저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7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8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가</a:t>
            </a:r>
            <a:r>
              <a:rPr b="1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_________</a:t>
            </a:r>
            <a:r>
              <a:rPr b="1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에서 무엇을</a:t>
            </a:r>
            <a:r>
              <a:rPr b="1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/</a:t>
            </a:r>
            <a:r>
              <a:rPr b="1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누구를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           </a:t>
            </a:r>
            <a:r>
              <a:rPr b="1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________(</a:t>
            </a:r>
            <a:r>
              <a:rPr b="1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으</a:t>
            </a:r>
            <a:r>
              <a:rPr b="1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)</a:t>
            </a:r>
            <a:r>
              <a:rPr b="1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십니까</a:t>
            </a:r>
            <a:r>
              <a:rPr b="1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   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________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에서 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_________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을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를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           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__________(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)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ㅂ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학원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배우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영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도서관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하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공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시장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사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야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공항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기다리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어머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다방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만나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친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숙제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Assignment)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TB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 txBox="1"/>
          <p:nvPr/>
        </p:nvSpPr>
        <p:spPr>
          <a:xfrm>
            <a:off x="456840" y="1600200"/>
            <a:ext cx="811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우안훼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언제 한국에 오셨습니까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야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4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월 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23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일에 왔습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우안훼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한국에서 무엇을 하십니까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은주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회사에서 일합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DIALOGUE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단어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Vocabulary)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0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오다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c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~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월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mon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~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일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day (date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회사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compa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일하다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문법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Grammar) 1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2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언제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when; interogative prono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언제 왔습니까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언제가 좋습니까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생일이 언제입니까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았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었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였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; suffix (ending) to make it p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보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보 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+ </a:t>
            </a: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았 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+ </a:t>
            </a: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습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먹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먹 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+ </a:t>
            </a: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었 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+ </a:t>
            </a: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습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하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하 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+ </a:t>
            </a: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였 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+ </a:t>
            </a: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습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오늘 아침에 병원에 갔습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어제 소설책을 읽었습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작년에 해외 여행을 갔습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문법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Grammar) 2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숫자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(Figur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Sino Korean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1    2    3    4   5    6   7    8    9   10  100  1,000 10,000 ---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일 이 삼 사 오 육 칠 팔 구 십 백 천 만 억 조 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Original Korean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하나 둘 셋 넷 다섯 여섯 일곱 여덟 아홉 열 스물 서른 마흔 쉬흔 예순 일흔 여든 아흔 백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~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Pattern Drill) 1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6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_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월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일 입니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9/2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3/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12/3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6/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10/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2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8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가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오늘이 몇 월 며칠입니까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   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______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월 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_____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일입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7/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2/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8/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11/3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4/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3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0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____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았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었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였습니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오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배우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기다리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읽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공부하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4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2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가</a:t>
            </a:r>
            <a:r>
              <a:rPr b="1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__________(</a:t>
            </a:r>
            <a:r>
              <a:rPr b="1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으</a:t>
            </a:r>
            <a:r>
              <a:rPr b="1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)</a:t>
            </a:r>
            <a:r>
              <a:rPr b="1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셨습니까</a:t>
            </a:r>
            <a:r>
              <a:rPr b="1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   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, __________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었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였습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지하철을 타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영화를 보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사진을 찍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냉면을 잡수시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먹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전화를 하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6T08:40:46Z</dcterms:created>
  <dc:creator>jyy</dc:creator>
  <dc:description/>
  <dc:language>en-US</dc:language>
  <cp:lastModifiedBy>SRU</cp:lastModifiedBy>
  <dcterms:modified xsi:type="dcterms:W3CDTF">2012-11-26T01:14:27Z</dcterms:modified>
  <cp:revision>101</cp:revision>
  <dc:subject/>
  <dc:title>KOREAN LANGUAGE</dc:title>
</cp:coreProperties>
</file>